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C0A-570C-4CBA-96F1-624CA3EC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4F6-1E1C-4896-B4DF-C5E54D73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7F4-7107-4A6C-BF0A-B2F2B99C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178-307B-421F-809F-8E536C07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E6AF-8AA5-476C-B829-95327396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34F7-EB3D-4518-AED5-BBD79F7A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D20E-BE91-4FA2-A224-164DB272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83A-6F08-44D2-AFA2-02C4140E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3625-F016-4DBD-95D4-7AB2A684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F9AC-DA00-46BD-A17E-36F0D0F0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0A9D-1ACA-46C9-BD88-998B38B1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020-59D1-493C-A81D-4D0BD0F5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0A0B-3B3A-499F-93E5-1E17C71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7EC3-A5E8-4BF4-828A-259FA1D9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11C5-7B3D-4B18-A086-06BE58C2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436E-DC5C-46C9-86D4-954EE085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BC64-79A3-4F51-87A6-63A6C1B1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9F9-319A-48B7-94EF-F24B4634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AD7-212B-4F23-9D7F-AFC235F6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BA8-FD3B-4FB0-8220-FB1170D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F00-BE54-4933-8264-6217C471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D8D-BA59-4979-962C-7BCA3E61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CFB-F5DF-48CB-9196-D651A339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A7D-839B-458E-AAB8-E89D1BF4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2775-F739-4CB6-B804-7DC7B765E0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13E7-BD91-46D0-87E4-AF229701B6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89000"/>
            <a:ext cx="8077320" cy="63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omance  del rey moro que perdió Alham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(romance fronterizo c. 1482. Es la última guerra de Grana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aseábase el rey m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la ciudad de Gran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de la puerta de Elv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asta la de Vivarrambla.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tas le fueron ven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ómo Alhama era g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s cartas echó en el fu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al mensajero mata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chó mano a sus cab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las sus barbas mes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19280" y="0"/>
            <a:ext cx="4824360" cy="72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peóse de la 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y en un caballo cabal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r el Zacaín arr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ubido había a la Alhamb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ndó tocar sus tromp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us añafiles de pla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rque lo oyesen los mo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que andaban por el a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tro a cuatro, cinco a cin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juntado se ha gran com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lí habló un viejo alfaqu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barba bellida y c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¿Para qué nos llamas,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 qué fue nuestra llam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8000" y="620640"/>
            <a:ext cx="504036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Para que sepáis, amig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gran pérdida de Alh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¡Bien se te emplea, buen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uen rey, bien se te emplea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taste los Bencerraj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eran la flor de Gran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giste los Tornad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 Córdoba la nomb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eso mereces,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na pena muy dobl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te pierdas tú y el re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que se acabe Gr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22:44:43Z</dcterms:created>
  <dc:creator> </dc:creator>
  <dc:description/>
  <dc:language>en-US</dc:language>
  <cp:lastModifiedBy>-</cp:lastModifiedBy>
  <dcterms:modified xsi:type="dcterms:W3CDTF">2008-10-06T23:34:48Z</dcterms:modified>
  <cp:revision>8</cp:revision>
  <dc:subject/>
  <dc:title>Diapositiva 1</dc:title>
</cp:coreProperties>
</file>